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63DAA-2795-46F4-BDAA-0A1B3B19D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437B2-EE20-48B7-B922-BBA98E982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E5400-0810-49B3-AC04-E871CACB7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5DF04-F083-460F-AC17-E7813B8DE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CFB98-8388-400F-8ADA-E2CD42690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0CD70-50A1-40C8-9D9E-04D62C029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50B0E-59B2-4F68-9DB7-1CA1A5DB0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5D95D-398A-47EA-9138-27396D8E9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8E15A-7119-4AA4-B514-8EFFE609A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FC2-554B-4C2D-97CD-1D63F5BD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8F3-5AA7-46D6-9F44-8CB99C23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835-DF58-4290-BBE3-1596172F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516-6472-4017-AFDD-F466BA40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037-E82C-4C3D-8FCD-1546EC5B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634-3CA7-49E5-BB78-6B3FA5B0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375-2606-4F36-AEC0-8587F39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271-49EF-42F8-B8FB-A5F0185F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DC5-AA5E-4C95-BA7A-97F12088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B58-9AF4-48D4-A173-CCF356F6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CAB-4DDE-43AF-9C30-7876B4F6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7C8-4B30-4D33-9A98-28C090FC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E6DCB-2AEA-483C-9EB6-76889A23E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3" descr=""/>
          <p:cNvPicPr/>
          <p:nvPr/>
        </p:nvPicPr>
        <p:blipFill>
          <a:blip r:embed="rId1"/>
          <a:stretch/>
        </p:blipFill>
        <p:spPr>
          <a:xfrm>
            <a:off x="42840" y="-42840"/>
            <a:ext cx="9309240" cy="2000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901160" y="2255760"/>
            <a:ext cx="2809800" cy="188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5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中秋節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60800" y="1874880"/>
            <a:ext cx="1643760" cy="202500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月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230480" y="4313160"/>
            <a:ext cx="1447560" cy="246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餅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029480" y="4618080"/>
            <a:ext cx="1232280" cy="20494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賞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751080" y="4389480"/>
            <a:ext cx="2283840" cy="20494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農曆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1"/>
          <p:cNvGraphicFramePr/>
          <p:nvPr/>
        </p:nvGraphicFramePr>
        <p:xfrm>
          <a:off x="531720" y="1143000"/>
          <a:ext cx="9124920" cy="603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143000"/>
                    <a:ext cx="912492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Oval 2"/>
          <p:cNvSpPr/>
          <p:nvPr/>
        </p:nvSpPr>
        <p:spPr>
          <a:xfrm>
            <a:off x="8421840" y="1143000"/>
            <a:ext cx="1143000" cy="1143000"/>
          </a:xfrm>
          <a:prstGeom prst="ellipse">
            <a:avLst/>
          </a:prstGeom>
          <a:solidFill>
            <a:srgbClr val="ffffff"/>
          </a:solidFill>
          <a:ln w="5472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28480" y="685800"/>
            <a:ext cx="9072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5751360" y="673200"/>
            <a:ext cx="180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710320" y="13032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673600" y="249084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376880" y="249084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116160" y="24559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785960" y="24541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0680" y="24541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8300880" y="126684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969240" y="126684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07800" y="3738600"/>
            <a:ext cx="1683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8300880" y="24559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7005600" y="24559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604880" y="3738600"/>
            <a:ext cx="1683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2901960" y="377496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4195800" y="377496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5529240" y="377496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6826320" y="375588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8120160" y="375588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309600" y="494352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1606680" y="494352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2973240" y="4943520"/>
            <a:ext cx="1683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二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4233960" y="5087880"/>
            <a:ext cx="1682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5529240" y="5087880"/>
            <a:ext cx="1682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6829560" y="5056200"/>
            <a:ext cx="1682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8161200" y="5092560"/>
            <a:ext cx="1683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349200" y="6243480"/>
            <a:ext cx="16826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1646280" y="6245280"/>
            <a:ext cx="1682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2941560" y="6245280"/>
            <a:ext cx="1683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2"/>
          <p:cNvSpPr/>
          <p:nvPr/>
        </p:nvSpPr>
        <p:spPr>
          <a:xfrm>
            <a:off x="4237200" y="6243480"/>
            <a:ext cx="16826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5533920" y="6243480"/>
            <a:ext cx="1683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4"/>
          <p:cNvSpPr/>
          <p:nvPr/>
        </p:nvSpPr>
        <p:spPr>
          <a:xfrm>
            <a:off x="6900840" y="6245280"/>
            <a:ext cx="1682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565200" y="744480"/>
            <a:ext cx="914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星期日   星期一   星期二  星期三  星期四  星期五   星期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6"/>
          <p:cNvSpPr/>
          <p:nvPr/>
        </p:nvSpPr>
        <p:spPr>
          <a:xfrm>
            <a:off x="1828800" y="685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7"/>
          <p:cNvSpPr/>
          <p:nvPr/>
        </p:nvSpPr>
        <p:spPr>
          <a:xfrm>
            <a:off x="3164040" y="685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8"/>
          <p:cNvSpPr/>
          <p:nvPr/>
        </p:nvSpPr>
        <p:spPr>
          <a:xfrm flipV="1">
            <a:off x="4487760" y="673200"/>
            <a:ext cx="180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9"/>
          <p:cNvSpPr/>
          <p:nvPr/>
        </p:nvSpPr>
        <p:spPr>
          <a:xfrm>
            <a:off x="7015320" y="685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0"/>
          <p:cNvSpPr/>
          <p:nvPr/>
        </p:nvSpPr>
        <p:spPr>
          <a:xfrm>
            <a:off x="8300880" y="685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1"/>
          <p:cNvSpPr/>
          <p:nvPr/>
        </p:nvSpPr>
        <p:spPr>
          <a:xfrm>
            <a:off x="8163000" y="6245280"/>
            <a:ext cx="1682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十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2"/>
          <p:cNvSpPr/>
          <p:nvPr/>
        </p:nvSpPr>
        <p:spPr>
          <a:xfrm>
            <a:off x="1954080" y="1260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420e"/>
                </a:solidFill>
                <a:latin typeface="標楷體"/>
                <a:ea typeface="標楷體"/>
              </a:rPr>
              <a:t>二</a:t>
            </a:r>
            <a:r>
              <a:rPr b="0" lang="en-US" sz="5400" spc="-1" strike="noStrike">
                <a:solidFill>
                  <a:srgbClr val="ff420e"/>
                </a:solidFill>
                <a:latin typeface="標楷體"/>
                <a:ea typeface="標楷體"/>
              </a:rPr>
              <a:t>OO</a:t>
            </a:r>
            <a:r>
              <a:rPr b="0" lang="en-US" sz="5400" spc="-1" strike="noStrike">
                <a:solidFill>
                  <a:srgbClr val="ff420e"/>
                </a:solidFill>
                <a:latin typeface="標楷體"/>
                <a:ea typeface="標楷體"/>
              </a:rPr>
              <a:t>九年　十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3" descr=""/>
          <p:cNvPicPr/>
          <p:nvPr/>
        </p:nvPicPr>
        <p:blipFill>
          <a:blip r:embed="rId3"/>
          <a:stretch/>
        </p:blipFill>
        <p:spPr>
          <a:xfrm>
            <a:off x="5559480" y="36360"/>
            <a:ext cx="685800" cy="75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849240" y="3017880"/>
            <a:ext cx="2490840" cy="3735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685800" y="117360"/>
            <a:ext cx="89154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中秋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ōng       qiū            jié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moon festival.jpg"/>
          <p:cNvPicPr/>
          <p:nvPr/>
        </p:nvPicPr>
        <p:blipFill>
          <a:blip r:embed="rId2"/>
          <a:stretch/>
        </p:blipFill>
        <p:spPr>
          <a:xfrm>
            <a:off x="4430880" y="339876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39760" y="2232000"/>
            <a:ext cx="9601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5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月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257800" y="1914480"/>
            <a:ext cx="41338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876240" y="1514520"/>
            <a:ext cx="3238560" cy="3971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438800" y="4114800"/>
            <a:ext cx="4476600" cy="3352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572000" y="457200"/>
            <a:ext cx="480060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月餅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19120" y="1333440"/>
            <a:ext cx="4597560" cy="36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賞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265720" y="922320"/>
            <a:ext cx="44798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16080" y="0"/>
            <a:ext cx="93726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中秋節是在農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 </a:t>
            </a:r>
            <a:r>
              <a:rPr b="0" lang="en-US" sz="9600" spc="-1" strike="noStrike" u="sng">
                <a:solidFill>
                  <a:srgbClr val="000000"/>
                </a:solidFill>
                <a:uFillTx/>
                <a:latin typeface="文鼎標準楷體"/>
                <a:ea typeface="文鼎標準楷體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月</a:t>
            </a:r>
            <a:r>
              <a:rPr b="0" lang="en-US" sz="9600" spc="-1" strike="noStrike" u="sng">
                <a:solidFill>
                  <a:srgbClr val="000000"/>
                </a:solidFill>
                <a:uFillTx/>
                <a:latin typeface="文鼎標準楷體"/>
                <a:ea typeface="文鼎標準楷體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日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077840" y="2255760"/>
            <a:ext cx="1371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8800" spc="-1" strike="noStrike">
                <a:solidFill>
                  <a:srgbClr val="2323dc"/>
                </a:solidFill>
                <a:latin typeface="標楷體"/>
                <a:ea typeface="標楷體"/>
              </a:rPr>
              <a:t>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363840" y="2332080"/>
            <a:ext cx="3048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8800" spc="-1" strike="noStrike">
                <a:solidFill>
                  <a:srgbClr val="2323dc"/>
                </a:solidFill>
                <a:latin typeface="標楷體"/>
                <a:ea typeface="標楷體"/>
              </a:rPr>
              <a:t>十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839960" y="4160880"/>
            <a:ext cx="38415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2"/>
          <p:cNvSpPr/>
          <p:nvPr/>
        </p:nvSpPr>
        <p:spPr>
          <a:xfrm>
            <a:off x="2068560" y="42696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月亮是圓的嗎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月亮 </a:t>
            </a:r>
            <a:r>
              <a:rPr b="1" lang="en-US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– </a:t>
            </a:r>
            <a:r>
              <a:rPr b="1" lang="zh-CN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晚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很 亮 </a:t>
            </a:r>
            <a:r>
              <a:rPr b="1" lang="en-US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– </a:t>
            </a:r>
            <a:r>
              <a:rPr b="1" lang="zh-CN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好 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687680" y="3703680"/>
            <a:ext cx="244944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3" descr=""/>
          <p:cNvPicPr/>
          <p:nvPr/>
        </p:nvPicPr>
        <p:blipFill>
          <a:blip r:embed="rId1"/>
          <a:stretch/>
        </p:blipFill>
        <p:spPr>
          <a:xfrm>
            <a:off x="1311120" y="66600"/>
            <a:ext cx="7961400" cy="188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moon cakesis 3.jpg"/>
          <p:cNvPicPr/>
          <p:nvPr/>
        </p:nvPicPr>
        <p:blipFill>
          <a:blip r:embed="rId2"/>
          <a:stretch/>
        </p:blipFill>
        <p:spPr>
          <a:xfrm>
            <a:off x="1230480" y="2484360"/>
            <a:ext cx="3203280" cy="2352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moon cakesis 2.jpg"/>
          <p:cNvPicPr/>
          <p:nvPr/>
        </p:nvPicPr>
        <p:blipFill>
          <a:blip r:embed="rId3"/>
          <a:stretch/>
        </p:blipFill>
        <p:spPr>
          <a:xfrm>
            <a:off x="6031080" y="2255760"/>
            <a:ext cx="2533320" cy="263700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7" descr=""/>
          <p:cNvPicPr/>
          <p:nvPr/>
        </p:nvPicPr>
        <p:blipFill>
          <a:blip r:embed="rId4"/>
          <a:stretch/>
        </p:blipFill>
        <p:spPr>
          <a:xfrm>
            <a:off x="-36360" y="5072040"/>
            <a:ext cx="10631160" cy="171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17:29Z</dcterms:created>
  <dc:creator/>
  <dc:description/>
  <dc:language>en-US</dc:language>
  <cp:lastModifiedBy>Monica</cp:lastModifiedBy>
  <dcterms:modified xsi:type="dcterms:W3CDTF">2009-11-16T19:54:32Z</dcterms:modified>
  <cp:revision>3</cp:revision>
  <dc:subject/>
  <dc:title>Slide 1</dc:title>
</cp:coreProperties>
</file>